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19744"/>
        <c:axId val="30908334"/>
      </c:barChart>
      <c:catAx>
        <c:axId val="17919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8334"/>
        <c:crosses val="autoZero"/>
        <c:auto val="1"/>
        <c:lblAlgn val="ctr"/>
        <c:lblOffset val="100"/>
        <c:noMultiLvlLbl val="0"/>
      </c:catAx>
      <c:valAx>
        <c:axId val="30908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19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974-CC25-489E-86FF-08D0DFC9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452-D5D2-4140-96DE-21707B0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387-219E-4AD4-B1A4-968367B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42B-1C4D-47A4-9BA3-05E9F1A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C55-348B-4A23-B310-835CE00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D41-F7DC-4981-9FAA-82B5C27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BDD-0E4A-442A-99E7-9137B2E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99A-8E45-4931-9043-64A59469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803-C6A2-46F9-89FE-D9C73F0D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0DA-72F0-462F-B772-A5B56A3E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817-BD11-4028-AEC0-CA2E280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C55-51BE-440C-95D6-C5328AE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92F82-B05F-41D6-9051-B4B0B7956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