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45295"/>
        <c:axId val="51489858"/>
      </c:barChart>
      <c:catAx>
        <c:axId val="47045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89858"/>
        <c:crosses val="autoZero"/>
        <c:auto val="1"/>
        <c:lblAlgn val="ctr"/>
        <c:lblOffset val="100"/>
        <c:noMultiLvlLbl val="0"/>
      </c:catAx>
      <c:valAx>
        <c:axId val="51489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5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AF2-F6AB-4C6C-AD4A-9C9BB59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8AC-5757-4996-8501-B11D4FA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544-9A83-4D13-BFEE-5496C737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D2D-2BA9-4119-8F19-A0BB6C38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509-F01E-4E87-AE00-45D64E49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1C2-FAC9-4576-8E33-0B7E532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9C6-BA58-403E-8445-3EA2490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654-97CB-4C2D-914F-452745C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591-FC65-46FE-995A-A3161620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CA5-8622-4EF4-BA54-CB512F0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A64-5E10-4BB4-BB82-7CB8DE8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ED6-8435-408A-BEEE-4FF6F63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207F-08EE-4FBE-AB8A-F4C2D2F02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