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43622"/>
        <c:axId val="32985659"/>
      </c:barChart>
      <c:catAx>
        <c:axId val="27543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85659"/>
        <c:crosses val="autoZero"/>
        <c:auto val="1"/>
        <c:lblAlgn val="ctr"/>
        <c:lblOffset val="100"/>
        <c:noMultiLvlLbl val="0"/>
      </c:catAx>
      <c:valAx>
        <c:axId val="32985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43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889-D8D8-4B50-924F-736876AE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710-CE56-4B93-BE7F-2415A481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D8A-693B-4FAC-8533-59D88B00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858-CD9D-44E6-87B1-F316CF96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F8F-6B5C-4EB1-9B58-1C3546C1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3AD-DA2C-477C-A476-45D528F2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1BB-DF02-4FB5-A046-69B68949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94E-79BE-4A47-9BD9-15893B39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61E-8175-4BA1-9EC6-4A649340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3D0-728F-40AD-AF19-8F7C70D2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790-2272-4E3B-9E0E-F68F6532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CD5-3AB4-4750-9280-BD53F11C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65BE6-EC61-4600-A1CE-488F75B4CA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