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7706"/>
        <c:axId val="89144142"/>
      </c:barChart>
      <c:catAx>
        <c:axId val="23047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4142"/>
        <c:crosses val="autoZero"/>
        <c:auto val="1"/>
        <c:lblAlgn val="ctr"/>
        <c:lblOffset val="100"/>
        <c:noMultiLvlLbl val="0"/>
      </c:catAx>
      <c:valAx>
        <c:axId val="89144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7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0CA-F983-484B-B957-B8179B96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4DF-4308-4859-9E73-0FFB9A0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12E-5082-4827-B4B0-564A1C72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716-9B3A-4973-85C7-6148BE3C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DCB-8DE2-4F6A-AFAF-12A1F82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1BD-C15B-4B07-A034-6712D34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5C6-F924-4D46-B3C1-B33FC49D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AD7-F0BD-4704-BA49-02D759D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75B-3095-4B1A-A231-3005553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068-8282-42FD-A283-75D5AB76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EB1-4C71-4D7A-9219-2F320B0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D82-B903-4C5B-AB8C-C6C0526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9B4ED-F878-4719-B714-3409A5859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