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EEDEDC-F7DE-4815-937A-EC0430D31D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8D4C67-EFAE-4D33-BDEE-7CC316F9B1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3C435C-E37B-43CD-939D-2FA63CB60E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AB33D6-AD0A-48B1-81F0-6F718069C2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905153-E2DD-4E2D-A8D5-E070A90133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2FDED6-48FC-49E5-9374-E35FFC9020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20E684-D372-4E8A-A5B8-F036DE7D78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099088-7230-480F-A079-FFC3278E59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68394B-5EC2-4FA3-AE19-875821ACE3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0B4140-0C5D-40D0-A779-953D922D39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C658A6-F68A-49F9-A468-C1A116D2F3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21959E-6B9B-47FC-920E-150C7536EC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DCAC27-262A-47D8-BB25-5C5D4DDE9A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6A5575-FF92-4832-92CC-7FDC651DFC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1E6AB5-65CD-4BDB-A0DA-D77938C144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33A8F73-80DE-41B8-97DC-28D4A88C54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3956ED-53AF-40BD-A0B2-160B1D5BA9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7EC125-39CB-4C98-91FC-C894F684C9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26B9CF-DCA0-41A2-9083-E3861728C9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519D4D-AEF8-4C25-8815-CDA5E0380E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380D60-694E-4092-847D-B14B185BD4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7C21DE-4126-4F17-A98E-73C38B4F60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4C019A-0F3A-48F4-8B38-AA1677B4D2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F8BC61-717F-4F35-B387-287B7A60A8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DDD1D-E83B-4D44-B4C2-5471E36C804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18BBA-E19F-40D8-B7DD-3C91AF08619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DFBC629-E942-4FEE-B3DE-E828F58D277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6CD2134-00F1-4B92-B6BA-2E4C6D33016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5222F2-FD1B-4D07-B4EE-B6A3F671923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FAA963-D74C-41A1-B488-3C0BCA5A594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48D4D9-C803-4AF6-AA3D-2F36EE06D33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0591F2-9E8B-4CF0-82F4-FEB1FE803DC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9A1AD0-D059-4FC2-8A93-4E7A736BB10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183903-4190-4AE3-B526-4F73EECDB67A}"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89D762-8E86-493F-BFEE-81D708072EC4}"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9F4577-710A-474F-BAAC-A29E6152A763}"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B5C2B5-FD47-40E5-A478-DC1AA61C55CA}"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73500B-C727-4CA6-8BED-3802654F7C97}"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EE4B37-F53F-4A6C-8640-171B45290FC3}"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631336-121C-4A41-9092-D780304CE68E}"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13A474-9249-47F9-922B-21463B9648B7}"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331DBB-A2DB-41A6-BEA9-44037D148C01}"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8C49CC-55BF-438F-B409-B925BD746513}"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D711AB-4AF8-44B5-AC63-AF48B885BE43}"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158A11-B441-4B9A-9BA0-6ACBF2A9F5B1}"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766824-048C-4091-8D6B-20572725217F}"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58B4D4-9B4A-40A2-81A6-8BE216CAE53B}"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4A8D8C-9F7F-4E23-B10A-9F0B1F7115DA}"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A2BAAB-8E7D-41DE-9534-CC3EC6E18CCC}"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9C8DAC-675A-4850-991A-44FAC2A32419}"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D4C4D4-67C6-4057-878A-8311F75256A5}"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7720FE-EE6E-453B-BC3F-0D99E3E3E0CF}"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FAD6EF-F292-4F4B-84FA-CE29B2C3A0D5}"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9FE78B7-D611-4B5E-AF61-F2D059212AD9}"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4A2E90-177C-4985-9B81-7F786F29B37E}"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5251A0-9EA8-43CB-9BF6-5D847D237087}"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D0BCBF-40C5-40D8-BAA6-7327BC040CA0}"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E5F300-58BF-4AAC-9329-466ABA6B3CE2}"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5639E2-0052-457F-8148-D798023BD3F4}"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6BB951-78EA-45FF-AA5B-106B2515982E}"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5CC682-39F1-457A-A241-F32E9C90CBBA}"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5506D3-5A89-4BF5-876F-EAEA9E3B27EB}"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9B3355-43D4-4CE0-9219-BA8769C12ABF}"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A8CCAC-8E6A-469F-9F99-E2DB6875E2B8}"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E258F1-CE69-417C-8ECC-33B7E8F485CE}"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F882FF-33D8-471E-85E6-6F57B50C56C2}"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7C94A2-3ABB-4B0D-BB97-3124B374E0F5}"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246631-4703-417B-AA97-C8262D968CAF}"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9DA187-3F39-4779-B214-A68D500CFD18}"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9CE083-747D-49BB-8409-2E06F422A95B}"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6E8316-8C22-4D90-B885-CB02BECFB037}"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9AECC7-25F3-40DD-8F61-C4706C6F3DCB}"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EB1D6B-AA12-4974-AFBA-50D25E5990D3}"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78512F-9B86-4993-ADDC-DEB222280805}"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F2C7788-D990-45E3-8CFC-2113214276E2}"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1E3381-8061-406A-B692-17FE712952B9}"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A1FE18-AF0F-404F-94E8-E1B3B2CCAA1D}"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4FBFC99-5CBA-4647-BB50-94991BF29CE1}"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9FCA71-4126-4F0D-89EC-268363E04EFC}"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B554E2-465D-4819-9AAF-F7A4AB2A82AF}"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9320BD-33FD-43A3-8A2B-52AAEDD97BAA}"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EEA946-5C37-4A96-BDF1-5B48227E7482}"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34FC06-64D2-455C-9745-2EE8562ECFE7}"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B39A37-2A71-4FD0-8963-8D1D39CB5287}"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F3A15F-E08E-49AE-A2A6-7B692EBCF968}"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26C1B33-7D54-47B9-B308-8A1D95D8624C}"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CBE72D-6DFE-439F-ADF6-24E9DE25C5E2}"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4D8ACB-D07F-41B3-9AB2-09BF391E2706}"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DD72F6-572D-4C02-9C4A-CF88746D5701}"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142750-6D08-4154-AFA7-06A966EDEFF3}"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B0C87C-47C1-402C-A489-D33E3B07A926}"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BCA334C-66FB-4838-915D-06F7928D1E7E}"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FE001D-746F-4549-9EEB-FAF84F1E57C7}"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0093C7-3599-4DD0-822B-D9540D1F3A07}"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743BEE-F71B-4CEE-85D9-26785F64C987}"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FF36D9-396C-4E5F-A894-48D1102E6252}"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D6A4F1B-4E2D-405A-8864-61B1F29CD660}"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D35D22-6C43-4A4E-B6CB-1844E23CCF51}"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CAE3C0-E1DE-446E-A0E3-42F9EDB58C6A}"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B890C3-53B7-48FE-A905-4BF1945A2628}"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0DBE88-73D0-4B9F-B58E-1EA0885C1A61}"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C75738-F927-4DA0-A1ED-DC2247455F9D}"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6E85F8-7E1A-4017-B317-D2CA133BFE82}"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2D166ED-8870-4B80-83C8-F0DCC981C68D}"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11DA1C-59CE-496F-9553-788BA223CD38}"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66242D-5459-41DE-B0B7-DD1567579A1A}"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A0C273-4DD2-4869-B1DA-A9618E30EB25}"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F67C701-903C-4C7A-9562-9C7DBA70EB6A}"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ED5754-8846-49C5-A0E5-7BEB113F5892}"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6A0DC0E-D597-4883-9886-ECFAA0810D16}"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889997-FC54-4E02-B5FD-9F5CAD7EF831}"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8BCEDC-948A-49A0-97AC-CCA6A129A3D1}"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B65F0A-1D20-45A7-9BCF-FC4468B3834A}"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398CA8-EC0C-4CA9-891F-ADEC82F608F1}"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0AA227-89E5-45CB-89E8-939C6EEF4E56}"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BFA937-BC84-4690-9B7C-0086CEE216EC}"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5CFDDD-D290-4C9D-B5D1-320524BB9554}"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512874-2DB6-4E89-A237-33BD6C365DA0}"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D6394B-05A5-4583-84ED-90279F3F150C}"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17ED21-D41D-4CF6-A662-2C9FB48AA439}"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152602-20D8-4723-AF5D-3907A2D9BA20}"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3C51FD-DFFC-4D16-87E3-C6E4CA1FB2F2}"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8FC813-0412-494A-915C-A9521924667D}"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E16B3F-BF3D-483D-824E-073B2320349D}"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EF5E69-A68B-4DE2-81E7-85A39BC31CA4}"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D5CCB7B-1DAC-42FB-9E0D-CB1E13F085A8}"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30EDED-6AD8-4B30-B276-42B39D2FC3D9}"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A5CFF0-A176-4DEB-8024-0A77A3F660E0}"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1A10E2-B8A7-4202-956D-C8FAE8499E28}"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008023-38E6-497F-8788-8C0810744AD1}"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49D799-99D4-4289-957F-11E861CDE575}"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83AC98-3160-4144-AF7E-562725A168A0}"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009336-5D8E-4318-BC55-D5DCA9806CBF}"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92FF10-AD7B-4206-B3A4-03E89E0C096A}"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090008-CCF6-43D4-92E3-1C50135965EE}"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A3220C-4484-4A49-A8C2-CB74C485E9DF}"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7F66DE-4E3C-45EA-ABAC-69308AE0F5D9}"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7741BB-2550-4EED-99A9-C374BFFEEEE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1AFAC0-6F0D-42EE-AFCD-30823F044B98}"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896011-F188-4472-B3B7-2532FC15D19B}"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759BF4-E792-4B67-8F59-7DA1EEA7AB01}"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31A194-D93B-4B05-8B2D-D03447908FCA}"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36865B-7368-4B22-AC3C-1E0F64F099F4}"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9D166A-64D1-40F6-A498-0E68F95FB19A}"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A1A7F8-62D8-4C8C-B800-AC00FDB61662}"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97B06E-C439-45FC-8190-D61CBF065525}"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DD4224-48E7-49BD-8CEF-B5A47D0F0342}"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A9F3DE-5661-4E2E-8C2A-2DF45A573C71}"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A1D19E-4CAC-4436-94F7-22AAA26C30C3}"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E5CE9F-070D-42C1-99C6-84402ACB3F79}"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594ABA-30C7-44D7-8D34-649F1FCCF3EC}"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948B31-7BA1-4610-8A2A-985F5A8C6F19}"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FC3D0D-A254-436B-B18E-5CDD3CDC3D90}"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9BC4D58-8341-4BEA-9917-7EFC8EE3A306}"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5F21B3-EFAD-402F-ABDA-48613AFC098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D3A5AD-50F0-4DAF-B914-9D575B42560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4DC99F-503B-42F1-AE24-6B20F6753B1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50CBFE-0F27-4E0A-A523-1006D9C4C40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864799-9A6B-4BD7-B6FD-316289FC1E6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48A00F-B782-4EF5-8946-3BED1DF237F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70FD7CB-7F6C-4C8B-9738-B79D66039B3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591167-272B-4DA5-A429-65076CE47D4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94166F-8568-407D-B3F1-0CC09C1881D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045079-C8ED-401A-B2B5-B21692ADB37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984C12-AF5A-43CF-9D4B-ACE2C7B2791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165D4E-02CE-4DF4-AF66-15FC2265350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5A91CD-2CDA-4EE6-9139-6E9E3F1F1B2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FE8E1A-87BE-4857-B21F-CB14B7FE454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7331DE-0342-410A-B9DE-2A82AF3ECEB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22FF40-3DCC-41FE-9715-AE22EBA17A6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93ECA1-7E7B-42D8-866E-840618B9510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A0886E-C2AA-4078-A889-5740607440D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C77739-89FA-4CC1-856C-82986451127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A9ACE4-B371-4FD9-A5E4-F12E087FC92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F07DAF-45A5-4F20-9A05-A46C833FCF5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43E9A6-0D17-4B92-815F-36A0E619B2F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144110-F5CC-45F0-8FF0-B4C4E95D47B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F3874C-AFFF-479A-82B5-C4ABA31B874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01CBC7-B475-4505-95AF-C29749A4CDC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AEC00B-7231-4BC0-B3BA-8323299E6E3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3C60DB-ACF1-4E31-8F14-4638BB2C8BE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201711-2285-4046-A036-CD7D03B4F56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01F83F-9176-49BE-B3C7-8BAF3AFFA33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049484-E68F-4C98-A729-C12680BB446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2E7D98-2F69-4C85-A4F6-64EA103BCB3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BCC0F7-44B4-4E4C-AA8C-E1E5C5E7364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953B53-65ED-4FE3-9789-CA86E85F6F6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C4B5EA-D460-4F9B-A4A6-6EADB167BAA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B55287-07D3-4C39-88A5-25F4603122C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48681C-C8CD-4B34-B3B5-54B41C04870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D6E0A6-68F5-47A5-9D86-D297A48396D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816051-7D7D-47AE-9189-0220702C553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3185E5-3EE9-4C04-B270-ACD7BA490B4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96D9FC-99C5-462E-9828-B60223E46DF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CD7766-C8DA-43B7-8E00-20554E86015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47EA4B-0D56-4D1E-B0BD-F038511266A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7E989C-1D80-4088-89D3-C58BA1206BC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034066-FDC6-43D1-BC96-1F906DD2CF7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EAB058-7D58-46F2-8EDF-46377E8476D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A22952-1743-4985-AC61-BE3EF677B73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DC2C64-2F1D-46E0-BD42-0CADA2EE08C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15C7139-3489-46FC-BF22-E7B69BFE8AA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CAD55E-3A72-44DB-9972-F8B1FDC9CF4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11EBE4-7642-4A20-BC55-228084ECCFF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A34FA3-100F-4B32-8644-5577B309320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F5F4E3-D9F0-4C33-BCCE-7AF0DBC126B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721169-167B-448B-AF4A-8016358BF79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EEF650-2ACE-4EAE-B40F-4EC57760326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2F8670-7878-4B7A-B5CA-9B2C6225FA9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273967-3BFF-42DF-A877-110EBE87BDC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CFEB742-9FD7-4D09-BCA3-02F45E89336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EE4E0C-5329-4045-A348-08B848DC791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0E053A-431D-46D1-911A-BF7FD735573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2758B4-E5A6-4FAA-8214-7B651A66D22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F3396E-9769-4CD7-872E-2A4495195A9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EC9877-1CDC-4FDD-AA71-7EE726DC2BA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4AE6C7-8462-48FB-9000-236A6645490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D6FAB3-BE0D-49DD-BCF0-731CDA068DC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4C719F-B8CE-4D35-8966-FFCE2D28982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1658CC-4D3F-4329-9869-29DF7D4365F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A84B69-C372-4CE2-8E27-B05EC282A6B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DC27AA-E127-4BE8-AD3F-C443FEA63DE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EDA06D-9A18-443C-9735-04BE241E117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F0B02D-A274-4406-ABF7-84CFBB2D45C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751EEF-F499-4CB2-91B9-DF3FF48D936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AE2FD95-09AA-409E-9451-DF90C3A61FE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E3FA90-7EFF-44B2-856F-EF2F9941BF8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2150BD-FE27-483F-8863-9C6D93C8DCD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19F68D-E08A-448F-A762-137517240C1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52A715-316C-460F-B15C-36131A325A4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C1A1DA-3D44-4FD9-BE83-75C63454504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99471A-F06C-4A56-8BB3-BC6E2595789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7BD9A2-1B04-465A-88DF-5EF7CFEAAE9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AB2219-685C-41AE-96AD-46E28669441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47D715-E99B-4956-BD55-6284FDCFC14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0351AA-A63B-4A61-88C9-F78E60BA670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457B17-36A4-45C8-905E-E5DCFA6D5D0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9E4432-E603-4699-BD21-B09EDC4BD3A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098355-8646-4FE6-87A8-BDDE532BB16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