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6012363"/>
        <c:axId val="7755506"/>
      </c:barChart>
      <c:catAx>
        <c:axId val="3601236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55506"/>
        <c:crosses val="autoZero"/>
        <c:auto val="1"/>
        <c:lblAlgn val="ctr"/>
        <c:lblOffset val="100"/>
        <c:noMultiLvlLbl val="0"/>
      </c:catAx>
      <c:valAx>
        <c:axId val="775550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01236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E10B-5BD3-4E68-B8FC-6489FED97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8C7C-C8D7-45BF-BE7B-8F1ACEB63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C224-5988-4516-A4C2-912F0E0F0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43AD-2F0E-4611-A960-A56BEF3FF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BDAA-4BD4-4577-9A65-72B198590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DE41-D8F9-4C31-A97C-904139C0F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B0E6-5EF0-4212-98ED-76479C60E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0EF6-C6C5-400F-9E40-8A07BE1F5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AC8D-7A35-4454-8BEF-4A6A510A9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B6BE-BAAE-4B60-ABC8-400027076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1C54-4527-4DD9-8FEA-D906BAAFB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1798-851C-4E00-9EB2-C7C3B0ABF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1B1F46-2C36-4DB1-B34B-462199F3F9E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