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10248"/>
        <c:axId val="45349052"/>
      </c:barChart>
      <c:catAx>
        <c:axId val="17410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49052"/>
        <c:crosses val="autoZero"/>
        <c:auto val="1"/>
        <c:lblAlgn val="ctr"/>
        <c:lblOffset val="100"/>
        <c:noMultiLvlLbl val="0"/>
      </c:catAx>
      <c:valAx>
        <c:axId val="45349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10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462-6CD1-47FC-9BCB-FFA44023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C60-90FC-4ABB-ABF5-3D92672B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5D6-2C76-4380-B78E-FEC668FA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CB6-78A7-471B-8B76-85C20AD4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2F5-5BDD-4669-8F61-82CBB8A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6C0-5421-4381-A858-ED7388AB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932-D6CC-403F-8F1F-557B3B33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519-9928-4362-9ABA-2C072116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CE0-57CA-4315-9BC1-CE6A26B9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833-154A-4D93-B96E-A3B9072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8B2-6BE9-44FA-B104-608D3BF7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1F4-8894-4ACB-9656-E4892F10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507CC-0FF9-4438-9B0A-4E3EAE5B4B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