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8247D6-F771-486A-80A4-FC194F8C8A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F10EDB-FE41-4213-96AB-F1A5A9DE04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9AF8F6-3C28-48AB-A76C-9DCBD68E2F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64C7FC-F90C-4F71-B152-F7B0A27183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109EE4B-FCF6-4BED-A2BA-25D8975C341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B4338A-75FA-413F-A2A8-EEC3F56D9C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CC292E-D025-4033-8947-90D8B8E170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66AE48-359F-4E57-9E3C-68ABE85656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D0068A-BBE0-4781-B67B-9045043F2D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12C313-FD9F-44DB-B6BA-5E4A864E04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61DE46-87B8-4232-A0B1-47339B75F9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8A3A29-1BB1-43B0-9A2E-F8175E5470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EDF6A7-C5C4-42D5-8E71-336771EA25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C28B1F-CD93-4502-ABA2-4571B7F94F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F1F834-A7D0-4783-8970-78907257A8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572C51B-5C01-44FD-B65C-5BAB4CA6696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4139F45-7CB5-4A0D-9C8A-ED4211940F3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C3C120-B23C-41F5-9FFC-5697CCB0B6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A51109-086F-4768-A0DD-E59AC005C3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56BCEB-982C-4E57-9F23-438F1BBFFD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A18760-2FE4-466A-93EC-FF36C75054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498088-3B45-4602-9E30-2982A9D8B3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BD1AB3-1556-4DB5-981B-AE4F8945D3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E5FE51-72AB-47F0-8058-280ED2CBB4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93F197-C873-439C-8E44-1A634A379FA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9F2C19-BAE8-41BE-8DBE-D275EA91CE7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3A964D9-6F0E-4862-8B03-C9A8A259D37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8482668-6641-4F85-B30D-D48DB650015F}"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148613-0092-4B86-A825-A74C2169F2B6}"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FC90A7-026F-4B8B-B39A-00FE2782DEDF}"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E692F3-AC8D-4547-A0B9-FD380B50379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33C0D6-1F03-46D5-BB65-9DFB16BE2EF1}"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A00175-6A2E-4408-A6CC-B9E6D064DE23}"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A8CA64-7AD0-4B67-8718-27B4A82ECDC0}"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4B6DA9-64F5-4CDC-822A-E8DBB336D5CA}"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2424E0-A533-4FCF-811B-EA10B5EE5A4B}"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548F90-D354-4E77-92A0-EB7518011CCE}"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954A10-9A7D-436C-8AA0-60B207FC3286}"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BA987D-8D26-4DC2-AEAC-A81EE3899DE9}"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79D04D-C9A7-487C-A4D7-4FDB4DDA5892}"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4B36F5-6896-4849-A2B3-2E5816903655}"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073FF1-A45F-455A-8438-D5ACE84EEBFB}"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38AE19-406E-4CC0-A2E9-DF732C9D4FB2}"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2A0347-2274-4927-A691-8F9969502509}"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0C3698-1B79-4BC9-8399-2D1382D70E32}"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1C80B8-D1EB-4B75-A7B8-D17ED4AA9F93}"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C6A417-FF69-4ACA-B898-F5272792E405}"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F7DFB6-104F-4B39-B2EE-4A998712A2AB}"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83A3AD-65FF-4FF0-94CF-65FBD703D06E}"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22A4E7-6B82-47AE-A51E-44122AB2E5D7}"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79A975-D880-43FC-AC0B-2C1B38C7E67C}"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1565F2-1B45-440F-AC34-4F60671F2F9F}"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272B7A-7C8A-45DB-B118-2E2AA144D309}"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CAF7B58-39AD-4614-8AC5-A43CAFCAEB5E}"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29E2D9-11FA-4A53-A452-98C6BB8A0682}"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C19555-C2AA-4EBD-AE3A-F1710DF5F664}"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CAC1B5-22DD-4AAC-9F26-4D03BB407FF9}"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709A43-2EC1-4202-B077-F5E1D52E1B5F}"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C6E422-E2D5-49C3-9B81-239888A3F55D}"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3F3EBF-AF7A-4B19-8740-62B97726ADEF}"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192C21-1F64-4719-A8F4-DC135B3D3C45}"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1D0076-3AD0-4268-81D3-2E2919A77CC5}"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E2B92D-D1C1-4828-9AFA-94646BE60829}"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3BDF67-C21F-47F8-9C6E-1E7B4230C233}"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B10DA9-EECA-42DB-AF6C-63FE183D9A9D}"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145503-5204-4F42-A1DA-1F22BE1AE1F0}"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087436-9187-491C-93E5-E97ED3E1495C}"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ED5BFA-DF81-401F-B89C-64DC0B929549}"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D60890-964A-4FE3-AC26-C60A0E142241}"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B3FC5D-E871-41A3-940E-0C32ED302371}"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4760E5-03ED-4514-861D-F86FCF406D64}"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6F4249-6B3E-4F50-ABC1-B7B3E463FC28}"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100814-2784-486B-89B8-80E6ECFD0BEE}"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7C6153-706D-4FC0-81E7-5102C415EB6F}"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DE0CC35-812A-46DF-8113-2665026D10EF}"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F89D33-2353-44B9-A075-C59FBACE4048}"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33721C-414B-4A3C-9BF3-314513D8B2C7}"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2DC4501-B2C5-478A-A440-8B7322F25454}"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489B3E-17EE-4D62-AF02-8AE18D43363C}"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E08E69-D86B-4212-9CB2-CEE3DE577AB1}"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833CBE-9711-4EC5-8013-2AE252A50F85}"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E1FF5C-3268-4EF3-9B1A-361C1F07C711}"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6FF7A9-825A-4408-BC78-53644C5C33E1}"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DBE53E-5A5E-4A09-8D4F-8A43FC17A5F6}"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485399-5B06-4B09-8A32-51F949FF1806}"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8873344-6AFF-4073-B04A-4E5BB9A89908}"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7E74AC-B2C7-471A-8471-A4BF0E19D0F4}"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22171F-903E-46F8-BB56-7AE149919D74}"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068A8E-8B09-4FB0-9E85-21BA59FE6518}"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80A310-DE80-4E40-AE79-EC3951A44CFE}"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FDBCB5-2271-434D-B97C-EBADC19304FD}"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81CF8BC-6878-4119-A2D9-E65F35273D18}"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EAC4A3-4FAD-4909-AAAF-74C86657F714}"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33C80E-2648-4348-AEBC-D0EB0857BB07}"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F4C1DF-A9A6-4ED4-81CE-D25EC433EAA2}"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97A9C3-EFDE-4D43-9732-EF74915929B4}"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061A39A-479C-4069-AC8A-3CDEB88723EB}"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42037E-ED88-4F02-BF55-C1BF478975C6}"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D52D72-40B5-4A74-95A5-16F51B2581E4}"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2BF566-8CDC-442F-9F71-18B02908D8E0}"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ED034A-D9D4-449E-96A3-FE9A042CAD24}"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3E1961-11AE-4386-9D2B-DA6452A54D1D}"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03C801-1A68-4B21-A899-F36AA9C83EF6}"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73F476E-2C5A-4ECF-A9EC-CFFA083FA689}"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46DAA2-2F46-4538-9B35-A8AD973CBC2E}"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AEF85D-026C-4F9F-99D6-ACB58817BA44}"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237063-936C-4A85-BF63-C7EBF7901832}"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8A5C405-EB13-4DDF-A77D-16941FDDEE46}"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024E8E-984E-4897-BC55-75F1A71025AE}"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414AAC0-60F8-47BF-8BEC-76FF36C5FA8D}"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F25A66-B85C-45E1-A90D-7AC181A88D71}"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03B4EE-20DD-4947-BCCC-03BEFEE7811B}"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ACE6F3-BCC6-4842-A617-33479BD6CFE7}"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F668BF-1F23-4C28-BA2E-66DD3E459E8E}"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A51DC9-5DD5-4D0B-A07A-C69E6A8FCA9E}"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A4F7F9-8185-4EFB-840C-D1CA782CEABE}"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A5CE76-131B-472E-AF4C-B6B7BE4853E1}"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933FB0-B2F2-4CEF-BFC8-DC98AC00BF12}"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645372-8A73-4074-A69E-768FF921F0CB}"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DF75E3-1543-4E07-B60F-3B410A5F5F3F}"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AA7FE7-1334-4591-926D-1E733081FBA3}"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B3C4C5-1C45-4B06-BD26-9149E685DB58}"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F76471-6083-423F-AE8F-74E602EBEB19}"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867DA4-A04D-41B9-AE1C-7343CBBE7ADD}"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38EC81-D68D-4526-B180-4A13FBF16CCE}"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EE8CAEB-52D9-44C4-B6C4-83DAA685FC2F}"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F766B0-A4F3-43CC-9D68-A9C0D690D08D}"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BF456A-8266-4B32-A2FC-2BD5D60F720C}"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B13C55-5134-47ED-A74F-D715DBA08A1B}"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0E8A26-18C6-4E9D-8DED-E778D39E9892}"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61AA0D-88BC-46A6-A309-4D5F99909B77}"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6B2A6F-256E-42BA-8713-CBA3141082A5}"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2655BC-C715-4A71-A9D4-9327373F5A3E}"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884B14-4B59-4340-ABF6-ED86C2B1DB7F}"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D6A4EC-4DF5-42AA-98F3-2998F34091E7}"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1F514E-B7FD-43F6-815D-851FE347ED1F}"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0636C7-D9D1-4C56-AC79-2D7F676D7375}"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C2E5DE-4EB0-45C0-B21F-188290CD4B0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BC85BA-7AD9-4C0A-A7F4-6CA15488F74A}"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152D13-BD3D-4BE4-9570-1B8FF47A9F60}"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A6EB83-22D3-4E3B-B2ED-50F0E32A9D4F}"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5D3320-1372-4682-82D5-E24B45D22F29}"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56EB4A-D1BC-43F2-9FF9-14CFF13BE4A0}"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2056B3-7E5D-4351-A1DC-42CA1FCEC766}"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19736F-F13A-4E7D-85DA-6931F0D673DA}"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964D2C-1229-4DFB-8498-F0A3FED8273A}"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2316D9-395C-4568-B323-AA6BA5B4E0E3}"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246FAF-2F94-4163-9CCF-599C2A9D7FDC}"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261277-13EE-4615-B463-7783F58525F5}"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1DC1C9-F305-4F25-B826-35A732B3D363}"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F987DA-9A36-432D-884F-422A63BD8465}"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EA5411-DCAB-4D27-B721-47E0C8D83FAB}"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F64CAC-1BAA-431A-BDA2-79C97ECAD10B}"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B326E7B-5511-4BDC-81D1-1549230A3599}"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9D5DA2-2963-463F-B624-2AECB6ED43C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8A417E-8C4D-45EF-AA38-AD8C6FDE099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CDD42F-2091-4F67-9901-B53E96A9F72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0ACD58-6CDF-4D93-BA9D-5173CE5508A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16AA06-9B67-47B0-8163-474CB1AAD31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4634CA-F1C9-4F30-AFC1-3C87A53E165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2007597-9197-46E3-9BDC-FC535CFD914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81BE44-4983-4F69-A179-BA551DE8048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51AC85-CA7D-46AB-AE97-00D3528CF24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E3D1C3-8779-4655-89A1-22F0007FC81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77305C-C40A-406B-9160-2F2B50E755D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F088D3-C9E5-4183-8841-867EDD8D6C0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CEE61E-5740-4392-89F9-577BF6C0893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D05104-555C-43A7-86C2-83D2A7473F1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463CCA-8CAC-4713-A6F3-6B7C9555DBD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1FC8C8-51E8-4C33-8B0B-67249FAC74C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1AC991-882F-4494-B836-3D39F16EB49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4246BC-F595-4B45-8744-CC63FA7FDEA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2C4802-5D6F-4482-B9BD-DAFBF9B5955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0290EE-446F-4D66-B7ED-686E75EFAD3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24F991-82A3-483B-B245-65725B7EC43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1DED6E-A840-4DD6-8238-24A9F5AC083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469B6D-7392-4A01-8C39-EF228B49A43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2F29EA-4EC9-440C-AE33-971124C96B4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100B76-EABE-4ECD-95F8-9F573BA3C80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85414F-DC2B-4927-833B-FC78B641C0D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CA5D7E-C3C1-495B-92E5-EBF58836DAB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2406CE-F579-46CE-9473-1EDFED89FDF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096872-73C0-4A9E-93D6-54E347A2B49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841789-8D5E-4434-A007-CDEFD5D4B36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52D2F8-A9DE-47D5-845C-AB5FA23E4D4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E6AD5F-2D8E-40AC-ADA9-B9914CDE7D4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274AE9-957D-436F-85DF-248E3B9A6EF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11E993-E2C1-4AC9-BEB9-FDFF5D53E9D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843B4D-D4D2-441D-9184-3F84DD83664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8D3EF1-0A1D-471C-8173-ACF174A8F84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5C17A6-B014-4E5F-A84A-53221EA56EA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54D458-A0B4-4E3E-829F-3A24C57CEC2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867F9D-E057-408C-9F4A-F03122F2E74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5C36DE-B60E-4A0A-A8C4-0616F0B3E67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66BA0F-EE81-4A66-8BE0-94D8CB3D7907}"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0D3766-663E-4D95-B35D-C451D879769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E59AF2-DACD-4244-8356-53E32316E1A1}"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DE4EAF-70C7-468A-92F4-8196555BA09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2A3735-D57E-432E-842B-1ED2E65E7DC2}"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EE34AC-C9A1-4631-910C-D0C73D37B68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A3610E-DD95-4071-95F9-A2D45EE7A0A3}"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E05F1B6-6318-43C1-BB01-FF02C1F7411A}"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24A0FE-A309-49AD-A879-8BC4E2699B1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029FD7-A687-4F47-B08E-EFB9C7CD3A70}"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96F489-B11A-4424-937A-F7483D98A736}"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EAAD83-5114-4272-8C23-56F17BA9305E}"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1A2B1A-E352-4F0E-9B17-DCEBF8F93D23}"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45E74A-C2F7-4554-B8C8-586B632AA0A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1A290C-E77B-4F6C-A928-6A6657AC5AC0}"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188C29-0546-4044-AAA9-CA9773D1424B}"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F0644C0-1EF7-4794-82B8-14EBBBA5B619}"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62C3B6-EB4F-4E4D-9B14-12C9D97B446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2F0DB9-AFE5-415E-B375-CCDE0B0AA7FB}"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3B99B9-9C17-441B-B37A-BFC55F0FFEF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EF23F7-A45D-455B-A090-878313EA0B41}"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E294DE-1827-4DB4-AA67-12D5DF9F7F2A}"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07C18B-D5DC-4F42-8E0E-B37BEBF7C6A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353E58-12EF-4E7A-95CB-B10590C9C461}"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DF2237-2F2A-41BE-B809-96FCDC4027B0}"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5D0C38-A336-41AA-82C8-69211D46B3A8}"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DF9C21-3B3B-4A4D-A4ED-5E567774387E}"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C18301-7562-4CBC-8CAA-CFA279529989}"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3241A7-6E63-46CF-A8BF-6B1D182085FB}"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49F1C5-D346-434F-B156-3BB38A45DE55}"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83A0F2-EF1A-4C64-8115-5B31C606D66F}"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9E08371-3F47-4458-B922-5CD8AC6BC9DC}"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BE1814-463B-4DF9-9EB2-8A8F2B5E0BC7}"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928CAA-1FED-4E1F-A617-4D132D563EC0}"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7AEFB9-E43F-41B7-9BE3-3BBA8A91E9C8}"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1A874B-5890-40B6-A639-C0EA930E0F86}"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474D89-A84C-4C91-B59E-6160BF12127B}"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EF9942-1EF3-4FCA-AF35-8D793CCC48F6}"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92A8D2-4064-411D-AB58-B13520674A3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E6D6B9-9742-4D34-90E3-20DB2C37930D}"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60B312-3608-424C-9207-A1C2AF81E65A}"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39CD1C-4A8B-4F64-B9E1-25AEAA5E547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AC0CD8-A969-4697-9CC3-AAB4834984F5}"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E9D0B5-ADFE-4C12-A078-B594EA412CB2}"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2D9F1E-1C9F-4C18-B123-7E4FF73D64A0}"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